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0F8-194D-4248-AA7E-8E329B1F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904-A0BC-4356-898C-6CEAC4F2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4E6-C438-493A-8B64-01B03761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E17-B421-48A2-AC1D-0B45832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C08-EFB4-4200-A79B-A40604B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8CF8-DA5F-4675-B617-5BD6A49E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4D2-747E-4617-BB8A-F6AD82C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F01-85CF-4F93-84E7-22EAE7C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4A8-CF3E-4E3E-A773-58C162F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130F-CB22-4A68-AF75-6C18CCC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860-188A-4717-9D49-F879252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DA4-8F50-4A40-88CE-21FEE50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0925-DB54-43FF-A225-78EB8BE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BB93-0D5B-4FA6-8093-A654B46B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7205-EC06-42E0-BD14-15CD1203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1341-2383-4862-9819-89BF9B7F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9FA-1E22-4982-B9FE-E68600E1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06EC-9B59-498F-9B42-2491727B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EED8-C57B-4197-891B-4EB325B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8587-8444-4CD9-875D-E83660F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F7ED-5291-4B64-ADEC-717AA0D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09E3-0ED0-4728-81DD-5F1B178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99D-F8DC-472A-9803-355F8DA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64D6-E68A-4321-9E88-C5C0EEC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B3AD-7094-4EEB-96B7-E6AC951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CD13-D9EF-4947-9D33-5BCB977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059B-EFFC-4334-83C9-8289954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A7A7-4AA1-4974-8496-89FC7AF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C14E-0722-44C0-97F1-799CF09F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883EB-7A66-47F9-9D3B-D9B7DC36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CC33-3875-4185-9D1A-B9037C39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20D9-BFDA-4DBB-9573-53DC27D2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92D7-7614-44C3-92F8-48DF30C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06C-EF73-4466-A334-C49F3EA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C5D0-BBB7-4682-ACC1-84A804F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E628-F105-4301-AF57-1C941D0D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E426-BBEC-42D3-94C1-34DC7EF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5B84-C6ED-48CF-A35F-B77464A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1E74-27AF-4233-B199-F2E7B73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0EE6-1AE5-49AB-ABF5-0AA8430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2FE4-7DDF-4D8D-9A04-E363D926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BDAA-ACB6-46D0-B21C-4684C15A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CCD2-C664-4B09-946B-D7598091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A85-187D-4528-A1DF-2D16DD3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29F-A0E0-4600-8803-6BF6A83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A6F-2784-403A-916D-81EA3FC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64C-19FB-433B-80C0-7E49270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08A-0D5D-4B30-88A1-CDCCCF2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1624-F69C-42D1-86FC-CFD38554EE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6CF-DF39-4205-B81A-0122CDAC4B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B1C-7862-449E-8A59-11D7BBA1D03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8194-F049-4767-8CC2-5EB64521A0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iki.ucalgary.ca/page/Courses/Computer_Science/CPSC_203/CPSC_203_Template/Labs_Template/Week_1_-_Lab_2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Use Case Descrip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flight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deadline of canceling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has not passed, the system refunds money to the user after subtracting the cancelation fe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cels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empty seats on the plans are increased by the number of cancelled sea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of cancelling the flight has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rror message is provi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still cancel the flight but with no refu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D223-48F5-4A8D-9063-AFC799900A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other 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wiki.ucalgary.ca/page/Courses/Computer_Science/CPSC_203/CPSC_203_Template/Labs_Template/Week_1_-_Lab_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638A-EB3B-4ACC-A728-F8245B89A0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 case diagram along with a use case description for a shipping company such as UPS or FedE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arrange for a pickup of a package to be delive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check the status of a package, assuming there is a tracking number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refuse a pack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determine the next address to deliver a package to, and get directions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AD5-7D4C-4E2F-9EB3-9DE905B502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confirm a package has been delivered, and store the signature of the sig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staff must be able to accept new packages to be shipped, as well as charge custo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s must be able to look at past parcel sending history for a particular location or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098-40CC-4D4B-874F-E8B4EC41DC3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: Nou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FAC0-F756-47CA-BA61-7EAE8A0789C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http://wiki.ucalgary.ca/images/3/34/Actors.JPG"/>
          <p:cNvPicPr/>
          <p:nvPr/>
        </p:nvPicPr>
        <p:blipFill>
          <a:blip r:embed="rId1"/>
          <a:stretch/>
        </p:blipFill>
        <p:spPr>
          <a:xfrm>
            <a:off x="1828800" y="2666880"/>
            <a:ext cx="627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: 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D0B2-611C-49CC-A55A-87D3DB5606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iki.ucalgary.ca/images/5/51/Usecasedina.JPG"/>
          <p:cNvPicPr/>
          <p:nvPr/>
        </p:nvPicPr>
        <p:blipFill>
          <a:blip r:embed="rId1"/>
          <a:stretch/>
        </p:blipFill>
        <p:spPr>
          <a:xfrm>
            <a:off x="2362320" y="27432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 Case Descri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8917-6297-457A-961C-7F65181E02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1F9E-0B96-4A0F-B641-2E58DED3AB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wiki.ucalgary.ca/images/0/0f/Problemstatement2.JPG"/>
          <p:cNvPicPr/>
          <p:nvPr/>
        </p:nvPicPr>
        <p:blipFill>
          <a:blip r:embed="rId1"/>
          <a:stretch/>
        </p:blipFill>
        <p:spPr>
          <a:xfrm>
            <a:off x="1143000" y="2057400"/>
            <a:ext cx="5562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 a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creates a new profile in th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ed valid information for name, address, phone, and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username that is available in th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password that matches system restr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d the passwor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31520" indent="-196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BE62-E914-4AA5-A69D-54D3A4044A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first name and last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available countries in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a country of res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provinces in this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cities in this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correctness of the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ecks the correctness of the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F70-2C0F-4039-BD3B-4B50A372F1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availability of this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robustness of this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s the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if both passwords are matc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reates a new pro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data is entere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rovides an error messages and allows correction up to three tim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0FC-A781-4CF7-91EC-6C4E488D8D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 cancel flig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cel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wants to cancel of a booked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logged in the system with valid username and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already booked the flight he/she wants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adline of canceling flight has not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141-48BD-4871-9B41-306C23B9A8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1T18:43:04Z</dcterms:modified>
  <cp:revision>178</cp:revision>
  <dc:subject/>
  <dc:title>CPSC 203</dc:title>
</cp:coreProperties>
</file>